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jpeg" ContentType="image/jpeg"/>
  <Override PartName="/ppt/media/image50.gif" ContentType="image/gif"/>
  <Override PartName="/ppt/media/image54.wmf" ContentType="image/x-wmf"/>
  <Override PartName="/ppt/media/image57.jpeg" ContentType="image/jpeg"/>
  <Override PartName="/ppt/media/image43.png" ContentType="image/png"/>
  <Override PartName="/ppt/media/TYPE.WAV" ContentType="audio/x-wav"/>
  <Override PartName="/ppt/media/image41.png" ContentType="image/png"/>
  <Override PartName="/ppt/media/image51.gif" ContentType="image/gif"/>
  <Override PartName="/ppt/media/image40.jpeg" ContentType="image/jpeg"/>
  <Override PartName="/ppt/media/image38.gif" ContentType="image/gif"/>
  <Override PartName="/ppt/media/applause.wav" ContentType="audio/x-wav"/>
  <Override PartName="/ppt/media/image37.jpeg" ContentType="image/jpeg"/>
  <Override PartName="/ppt/media/image20.png" ContentType="image/png"/>
  <Override PartName="/ppt/media/image44.gif" ContentType="image/gif"/>
  <Override PartName="/ppt/media/image34.jpeg" ContentType="image/jpeg"/>
  <Override PartName="/ppt/media/image33.jpeg" ContentType="image/jpeg"/>
  <Override PartName="/ppt/media/image32.jpeg" ContentType="image/jpeg"/>
  <Override PartName="/ppt/media/image30.jpeg" ContentType="image/jpeg"/>
  <Override PartName="/ppt/media/image58.gif" ContentType="image/gif"/>
  <Override PartName="/ppt/media/image22.jpeg" ContentType="image/jpeg"/>
  <Override PartName="/ppt/media/image75.png" ContentType="image/png"/>
  <Override PartName="/ppt/media/image28.jpeg" ContentType="image/jpeg"/>
  <Override PartName="/ppt/media/image24.jpeg" ContentType="image/jpeg"/>
  <Override PartName="/ppt/media/image27.gif" ContentType="image/gif"/>
  <Override PartName="/ppt/media/image31.jpeg" ContentType="image/jpeg"/>
  <Override PartName="/ppt/media/image14.gif" ContentType="image/gif"/>
  <Override PartName="/ppt/media/image49.gif" ContentType="image/gif"/>
  <Override PartName="/ppt/media/image12.gif" ContentType="image/gif"/>
  <Override PartName="/ppt/media/image18.jpeg" ContentType="image/jpeg"/>
  <Override PartName="/ppt/media/image19.png" ContentType="image/png"/>
  <Override PartName="/ppt/media/image71.png" ContentType="image/png"/>
  <Override PartName="/ppt/media/image17.jpeg" ContentType="image/jpeg"/>
  <Override PartName="/ppt/media/chimes.wav" ContentType="audio/x-wav"/>
  <Override PartName="/ppt/media/image76.gif" ContentType="image/gif"/>
  <Override PartName="/ppt/media/image25.jpeg" ContentType="image/jpeg"/>
  <Override PartName="/ppt/media/image42.png" ContentType="image/png"/>
  <Override PartName="/ppt/media/image74.gif" ContentType="image/gif"/>
  <Override PartName="/ppt/media/image46.gif" ContentType="image/gif"/>
  <Override PartName="/ppt/media/image65.jpeg" ContentType="image/jpeg"/>
  <Override PartName="/ppt/media/image8.jpeg" ContentType="image/jpeg"/>
  <Override PartName="/ppt/media/image45.gif" ContentType="image/gif"/>
  <Override PartName="/ppt/media/image66.png" ContentType="image/png"/>
  <Override PartName="/ppt/media/image21.jpeg" ContentType="image/jpeg"/>
  <Override PartName="/ppt/media/image62.gif" ContentType="image/gif"/>
  <Override PartName="/ppt/media/image16.wmf" ContentType="image/x-wmf"/>
  <Override PartName="/ppt/media/image55.png" ContentType="image/png"/>
  <Override PartName="/ppt/media/image73.jpeg" ContentType="image/jpeg"/>
  <Override PartName="/ppt/media/image68.png" ContentType="image/png"/>
  <Override PartName="/ppt/media/image70.png" ContentType="image/png"/>
  <Override PartName="/ppt/media/image69.gif" ContentType="image/gif"/>
  <Override PartName="/ppt/media/image67.png" ContentType="image/png"/>
  <Override PartName="/ppt/media/image64.gif" ContentType="image/gif"/>
  <Override PartName="/ppt/media/image36.jpeg" ContentType="image/jpeg"/>
  <Override PartName="/ppt/media/image63.jpeg" ContentType="image/jpeg"/>
  <Override PartName="/ppt/media/image60.jpeg" ContentType="image/jpeg"/>
  <Override PartName="/ppt/media/image61.gif" ContentType="image/gif"/>
  <Override PartName="/ppt/media/image1.jpeg" ContentType="image/jpeg"/>
  <Override PartName="/ppt/media/image35.jpeg" ContentType="image/jpeg"/>
  <Override PartName="/ppt/media/image9.jpeg" ContentType="image/jpeg"/>
  <Override PartName="/ppt/media/image3.wmf" ContentType="image/x-wmf"/>
  <Override PartName="/ppt/media/image29.jpeg" ContentType="image/jpeg"/>
  <Override PartName="/ppt/media/image39.gif" ContentType="image/gif"/>
  <Override PartName="/ppt/media/image4.jpeg" ContentType="image/jpeg"/>
  <Override PartName="/ppt/media/image5.gif" ContentType="image/gif"/>
  <Override PartName="/ppt/media/image23.jpeg" ContentType="image/jpeg"/>
  <Override PartName="/ppt/media/image7.jpeg" ContentType="image/jpeg"/>
  <Override PartName="/ppt/media/image13.gif" ContentType="image/gif"/>
  <Override PartName="/ppt/media/image52.jpeg" ContentType="image/jpeg"/>
  <Override PartName="/ppt/media/image10.gif" ContentType="image/gif"/>
  <Override PartName="/ppt/media/image26.jpeg" ContentType="image/jpeg"/>
  <Override PartName="/ppt/media/image47.gif" ContentType="image/gif"/>
  <Override PartName="/ppt/media/image53.jpeg" ContentType="image/jpeg"/>
  <Override PartName="/ppt/media/image59.jpeg" ContentType="image/jpeg"/>
  <Override PartName="/ppt/media/image6.png" ContentType="image/png"/>
  <Override PartName="/ppt/media/image15.gif" ContentType="image/gif"/>
  <Override PartName="/ppt/media/image2.png" ContentType="image/png"/>
  <Override PartName="/ppt/media/image72.jpeg" ContentType="image/jpeg"/>
  <Override PartName="/ppt/media/image11.gif" ContentType="image/gif"/>
  <Override PartName="/ppt/media/image4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04B-2FAE-4847-83D9-6334A55F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B8A-CE25-4270-8F7C-AEC1B2A1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17AD-ADA4-41DE-AEF0-C249DB51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0002-3943-4F0A-AF12-D8013542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83A9-50DB-4B9F-A0DD-52C366A2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ED8-5D44-4E9D-9F85-ED1931DC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E72-105B-473E-9931-AA2C9997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2D8-3B14-4AFC-AF5D-22171C9C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990-982E-4EF4-95A5-E06A8F90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453F-8373-4604-9894-6DAF8134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8F1-D930-4038-A351-EA7A6280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769-73D8-476E-9259-5E248F82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93A4-0AC7-4DC2-A717-58B1AA84CF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3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png"/><Relationship Id="rId3" Type="http://schemas.openxmlformats.org/officeDocument/2006/relationships/image" Target="../media/image27.gif"/><Relationship Id="rId4" Type="http://schemas.openxmlformats.org/officeDocument/2006/relationships/image" Target="../media/image20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gif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1.gif"/><Relationship Id="rId3" Type="http://schemas.openxmlformats.org/officeDocument/2006/relationships/image" Target="../media/image53.jpeg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gif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image" Target="../media/image62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image" Target="../media/image49.gi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9.gif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4.gif"/><Relationship Id="rId2" Type="http://schemas.openxmlformats.org/officeDocument/2006/relationships/image" Target="../media/image74.gif"/><Relationship Id="rId3" Type="http://schemas.openxmlformats.org/officeDocument/2006/relationships/image" Target="../media/image75.png"/><Relationship Id="rId4" Type="http://schemas.openxmlformats.org/officeDocument/2006/relationships/image" Target="../media/image75.png"/><Relationship Id="rId5" Type="http://schemas.openxmlformats.org/officeDocument/2006/relationships/image" Target="../media/image76.gif"/><Relationship Id="rId6" Type="http://schemas.openxmlformats.org/officeDocument/2006/relationships/image" Target="../media/image74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1557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33920" y="4724280"/>
            <a:ext cx="1908000" cy="1700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7640" y="765000"/>
            <a:ext cx="752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en-US" sz="6600" spc="-1" strike="noStrike">
                <a:solidFill>
                  <a:srgbClr val="3333cc"/>
                </a:solidFill>
                <a:latin typeface="Times New Roman"/>
              </a:rPr>
              <a:t>Unit  2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Body Langua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4038840" cy="5029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354120" y="22860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e 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276720" y="-457200"/>
            <a:ext cx="238104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38280" y="1600200"/>
            <a:ext cx="4038840" cy="5029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0676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362320" y="1676520"/>
            <a:ext cx="3962160" cy="4952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43044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3733560" cy="4876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50676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16002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don’t k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429000" y="-38088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352680" y="5791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hu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5791320"/>
            <a:ext cx="2286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429000" y="228600"/>
            <a:ext cx="313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2590920" cy="2209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2268360" y="1566720"/>
            <a:ext cx="4967640" cy="4951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65280" y="5435640"/>
            <a:ext cx="9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75800" y="-8568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Facial 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2666880" cy="2819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3880" y="3276720"/>
            <a:ext cx="12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n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3276720"/>
            <a:ext cx="11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3276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jo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3440" y="327672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2080" y="3124080"/>
            <a:ext cx="167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em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轻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0" y="3276720"/>
            <a:ext cx="15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u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920" y="3124080"/>
            <a:ext cx="125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sg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厌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14600" y="380880"/>
            <a:ext cx="3200400" cy="2743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715000" y="0"/>
            <a:ext cx="3429000" cy="3124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0" y="4038480"/>
            <a:ext cx="2666880" cy="28195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362320" y="4038480"/>
            <a:ext cx="2438280" cy="2819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553080" y="4114800"/>
            <a:ext cx="2590920" cy="2743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666880" cy="3124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858000" y="3962520"/>
            <a:ext cx="533520" cy="53316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4343400" y="4191120"/>
            <a:ext cx="2438280" cy="2666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674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3124080"/>
            <a:ext cx="0" cy="10670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733920"/>
            <a:ext cx="2057400" cy="144756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38280" y="2209680"/>
            <a:ext cx="1219320" cy="106704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905120"/>
            <a:ext cx="1600200" cy="16002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3733920"/>
            <a:ext cx="838080" cy="18288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58200" y="2209680"/>
            <a:ext cx="380880" cy="11430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3733560"/>
            <a:ext cx="3581280" cy="1143000"/>
          </a:xfrm>
          <a:prstGeom prst="line">
            <a:avLst/>
          </a:prstGeom>
          <a:ln cap="sq"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500200" y="1468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59040" y="30225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447920"/>
            <a:ext cx="2514600" cy="1981080"/>
          </a:xfrm>
          <a:prstGeom prst="flowChartProcess">
            <a:avLst/>
          </a:prstGeom>
          <a:solidFill>
            <a:srgbClr val="ffffff"/>
          </a:solidFill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3920" y="1523880"/>
            <a:ext cx="11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9320" y="243828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body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609480"/>
            <a:ext cx="75960" cy="3962520"/>
          </a:xfrm>
          <a:custGeom>
            <a:avLst/>
            <a:gdLst>
              <a:gd name="textAreaLeft" fmla="*/ 48600 w 75960"/>
              <a:gd name="textAreaRight" fmla="*/ 76320 w 7596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920" y="1828800"/>
            <a:ext cx="13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2514600"/>
            <a:ext cx="1828800" cy="0"/>
          </a:xfrm>
          <a:prstGeom prst="line">
            <a:avLst/>
          </a:prstGeom>
          <a:ln cap="sq"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91840" y="4986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30640" y="2133720"/>
            <a:ext cx="13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pin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65640" y="407988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e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2627280" y="620640"/>
            <a:ext cx="422928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50760">
                  <a:solidFill>
                    <a:srgbClr val="333399"/>
                  </a:solidFill>
                  <a:miter/>
                </a:ln>
                <a:solidFill>
                  <a:srgbClr val="000080">
                    <a:alpha val="54000"/>
                  </a:srgbClr>
                </a:solidFill>
                <a:latin typeface="幼圆"/>
              </a:rPr>
              <a:t>Body talks</a:t>
            </a:r>
            <a:endParaRPr b="1" i="1" lang="en-US" sz="5400" spc="1" strike="noStrike">
              <a:ln w="50760">
                <a:solidFill>
                  <a:srgbClr val="333399"/>
                </a:solidFill>
                <a:miter/>
              </a:ln>
              <a:solidFill>
                <a:srgbClr val="000080">
                  <a:alpha val="54000"/>
                </a:srgbClr>
              </a:solidFill>
              <a:latin typeface="幼圆"/>
              <a:ea typeface="幼圆"/>
            </a:endParaRPr>
          </a:p>
        </p:txBody>
      </p:sp>
      <p:sp>
        <p:nvSpPr>
          <p:cNvPr id="173" name=""/>
          <p:cNvSpPr/>
          <p:nvPr/>
        </p:nvSpPr>
        <p:spPr>
          <a:xfrm>
            <a:off x="307440" y="2895480"/>
            <a:ext cx="85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21"/>
                </a:solidFill>
                <a:latin typeface="Times New Roman"/>
              </a:rPr>
              <a:t>Do people from different part of the wor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21"/>
                </a:solidFill>
                <a:latin typeface="Times New Roman"/>
              </a:rPr>
              <a:t>use the same body languag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819520" y="457200"/>
            <a:ext cx="25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ki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676520"/>
            <a:ext cx="9325080" cy="34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What’s the main idea of each paragraph</a:t>
            </a:r>
            <a:r>
              <a:rPr b="1" lang="en-US" sz="3600" spc="-1" strike="noStrike">
                <a:solidFill>
                  <a:srgbClr val="ffff21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Pay attention to the </a:t>
            </a:r>
            <a:r>
              <a:rPr b="1" lang="en-US" sz="4000" spc="-1" strike="noStrike" u="sng">
                <a:solidFill>
                  <a:srgbClr val="ffff21"/>
                </a:solidFill>
                <a:uFillTx/>
                <a:latin typeface="Times New Roman"/>
              </a:rPr>
              <a:t>first</a:t>
            </a: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 and </a:t>
            </a:r>
            <a:r>
              <a:rPr b="1" lang="en-US" sz="4000" spc="-1" strike="noStrike" u="sng">
                <a:solidFill>
                  <a:srgbClr val="ffff21"/>
                </a:solidFill>
                <a:uFillTx/>
                <a:latin typeface="Times New Roman"/>
              </a:rPr>
              <a:t>last</a:t>
            </a:r>
            <a:r>
              <a:rPr b="1" lang="en-US" sz="4000" spc="-1" strike="noStrike">
                <a:solidFill>
                  <a:srgbClr val="ffff21"/>
                </a:solidFill>
                <a:latin typeface="Times New Roman"/>
              </a:rPr>
              <a:t> sentenc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533412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676520" y="1066680"/>
          <a:ext cx="487656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066680"/>
                    <a:ext cx="487656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676520" y="4191120"/>
            <a:ext cx="6095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lapping one’s hand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9528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----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8000" y="620640"/>
            <a:ext cx="12999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4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ara 5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34160" y="509760"/>
            <a:ext cx="774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ommunicate with people not on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y words but also by body langu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6200" y="170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88600" y="1716120"/>
            <a:ext cx="754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dy language varies from culture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l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7360" y="2959200"/>
            <a:ext cx="75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ame body language has diffe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nings in some different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58360" y="4443480"/>
            <a:ext cx="57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gestures are univers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82320" y="5407200"/>
            <a:ext cx="782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mile is the best example of univers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stoo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dy langu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51080" y="476280"/>
            <a:ext cx="7758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Body langua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03280" y="1844640"/>
            <a:ext cx="774072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Differ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8600" y="4568760"/>
            <a:ext cx="77454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Universal gesture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99"/>
                </a:solidFill>
                <a:latin typeface="Times New Roman"/>
              </a:rPr>
              <a:t>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220500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03280" y="479736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42280" y="189000"/>
            <a:ext cx="893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What different meanings do the following ges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Times New Roman"/>
              </a:rPr>
              <a:t>have in different count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1360" y="1484280"/>
            <a:ext cx="24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eye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205000"/>
            <a:ext cx="23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thumb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4800" y="2781360"/>
            <a:ext cx="819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making a circle with one’s thumb and inde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0280" y="378936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moving the index finger in a circle in fron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8600" y="486900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nodding or shaking one’s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3144960" y="16970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2992320" y="23828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342900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14600" y="441972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504972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7236000" y="765000"/>
            <a:ext cx="136836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54130" t="0" r="0" b="0"/>
          <a:stretch/>
        </p:blipFill>
        <p:spPr>
          <a:xfrm>
            <a:off x="324000" y="1413000"/>
            <a:ext cx="2808000" cy="289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324000" y="404640"/>
          <a:ext cx="8569080" cy="5688000"/>
        </p:xfrm>
        <a:graphic>
          <a:graphicData uri="http://schemas.openxmlformats.org/drawingml/2006/table">
            <a:tbl>
              <a:tblPr/>
              <a:tblGrid>
                <a:gridCol w="2855880"/>
                <a:gridCol w="1968480"/>
                <a:gridCol w="374472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5292720" y="1341360"/>
            <a:ext cx="3600360" cy="24447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ccecff"/>
              </a:gs>
            </a:gsLst>
            <a:lin ang="5400000"/>
          </a:gradFill>
          <a:ln cap="rnd" w="0">
            <a:solidFill>
              <a:srgbClr val="ccecff"/>
            </a:solidFill>
            <a:custDash>
              <a:ds d="100000" sp="1000"/>
            </a:custDash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a way to sh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one’s 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4005360"/>
            <a:ext cx="331128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rude 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disrespect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0880" y="472428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1015920" cy="762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8128080" y="6095880"/>
            <a:ext cx="1015920" cy="7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ec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250920" y="549360"/>
          <a:ext cx="8642160" cy="601164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rman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56360" y="1844640"/>
            <a:ext cx="2592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great 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good jo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365720"/>
            <a:ext cx="2664000" cy="20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    </a:t>
            </a: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the number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800000"/>
                </a:solidFill>
                <a:latin typeface="Times New Roman"/>
              </a:rPr>
              <a:t>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2286000" cy="2232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68360" y="4508640"/>
            <a:ext cx="227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umbs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8128080" y="6095880"/>
            <a:ext cx="101592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09880" y="3276720"/>
            <a:ext cx="1752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ig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322200" y="549360"/>
          <a:ext cx="8353440" cy="5597280"/>
        </p:xfrm>
        <a:graphic>
          <a:graphicData uri="http://schemas.openxmlformats.org/drawingml/2006/table">
            <a:tbl>
              <a:tblPr/>
              <a:tblGrid>
                <a:gridCol w="2784600"/>
                <a:gridCol w="2784240"/>
                <a:gridCol w="27846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st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n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3276720" y="2276640"/>
            <a:ext cx="259056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27640" y="3284640"/>
            <a:ext cx="2305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19640" y="4221000"/>
            <a:ext cx="223200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Braz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5229360"/>
            <a:ext cx="23047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974520" cy="2362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3240" y="3789360"/>
            <a:ext cx="299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king a cir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one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mb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ex fin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8128080" y="6095880"/>
            <a:ext cx="1015920" cy="7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e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68360" y="404640"/>
          <a:ext cx="8280360" cy="5400720"/>
        </p:xfrm>
        <a:graphic>
          <a:graphicData uri="http://schemas.openxmlformats.org/drawingml/2006/table">
            <a:tbl>
              <a:tblPr/>
              <a:tblGrid>
                <a:gridCol w="2951280"/>
                <a:gridCol w="2570040"/>
                <a:gridCol w="2759040"/>
              </a:tblGrid>
              <a:tr h="15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ving the index finger in a circle in front of the e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me countri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zi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27640" y="2205000"/>
            <a:ext cx="237672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Times New Roman"/>
              </a:rPr>
              <a:t>cr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84720" y="4076640"/>
            <a:ext cx="251964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You have 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00"/>
                </a:solidFill>
                <a:latin typeface="Times New Roman"/>
              </a:rPr>
              <a:t>phone c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58770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8172360" y="5886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0" y="0"/>
          <a:ext cx="9144000" cy="6599160"/>
        </p:xfrm>
        <a:graphic>
          <a:graphicData uri="http://schemas.openxmlformats.org/drawingml/2006/table">
            <a:tbl>
              <a:tblPr/>
              <a:tblGrid>
                <a:gridCol w="2286000"/>
                <a:gridCol w="3809880"/>
                <a:gridCol w="304812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Mean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y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king one’s h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No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king one’s h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countri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6025320" y="838080"/>
            <a:ext cx="329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Bulgaria, pa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of Greece, I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8400" y="3048120"/>
            <a:ext cx="15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13160" y="365760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54920" y="3284640"/>
            <a:ext cx="32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Kiss on the ch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54920" y="4149720"/>
            <a:ext cx="33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firm handsh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54560" y="4797360"/>
            <a:ext cx="23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loving h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36760" y="5657760"/>
            <a:ext cx="38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A bow/ a nod of 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98560" y="199692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560" y="3962520"/>
            <a:ext cx="14014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Gr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-468360" y="4626000"/>
            <a:ext cx="2521080" cy="2232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292720" y="4194000"/>
            <a:ext cx="2521080" cy="2664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308720" y="3713040"/>
            <a:ext cx="2592360" cy="31449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3635280" y="426564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1979640" y="4552920"/>
            <a:ext cx="1440000" cy="2305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227640" y="6400800"/>
            <a:ext cx="33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9640" y="1197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smile can open doors and tear down wa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63640" y="2781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微笑能敲开大门，拆除围墙（化解矛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04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Everyday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284720" y="2637000"/>
            <a:ext cx="3048120" cy="3733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066680" y="3200400"/>
            <a:ext cx="1193760" cy="2100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 flipV="1">
            <a:off x="2124000" y="2852640"/>
            <a:ext cx="914400" cy="6098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134136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Bulgaria, parts of Greece, and Ir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9080" y="4572000"/>
            <a:ext cx="105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21440" y="443700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n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156360" y="0"/>
            <a:ext cx="23032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hat do they    mea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2060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K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24000" y="20606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08360" y="2276640"/>
            <a:ext cx="19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od Luck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393372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azy/ph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21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 don’t k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640080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nk/Craz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0920" y="64008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fu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64000" y="64008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mber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921800" y="1052640"/>
            <a:ext cx="1222200" cy="1917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5940360" y="2852640"/>
            <a:ext cx="3203640" cy="4005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796000" y="1052640"/>
            <a:ext cx="1800360" cy="177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0"/>
            <a:ext cx="9144000" cy="1557000"/>
          </a:xfrm>
          <a:prstGeom prst="rect">
            <a:avLst/>
          </a:prstGeom>
          <a:gradFill rotWithShape="0">
            <a:gsLst>
              <a:gs pos="0">
                <a:srgbClr val="fff0d9"/>
              </a:gs>
              <a:gs pos="100000">
                <a:srgbClr val="fef9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0000ff"/>
                </a:solidFill>
                <a:latin typeface="Times New Roman"/>
              </a:rPr>
              <a:t>Body talk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005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419640" y="1052640"/>
            <a:ext cx="1944360" cy="295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748720" y="0"/>
            <a:ext cx="395280" cy="395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941720"/>
            <a:ext cx="9144000" cy="947160"/>
          </a:xfrm>
          <a:prstGeom prst="rect">
            <a:avLst/>
          </a:prstGeom>
          <a:gradFill rotWithShape="0">
            <a:gsLst>
              <a:gs pos="0">
                <a:srgbClr val="fef7ec"/>
              </a:gs>
              <a:gs pos="100000">
                <a:srgbClr val="fff7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Body language can carry meaning , which is an important part of nonverbal communication .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8172360" y="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314172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911920"/>
            <a:ext cx="9144000" cy="947160"/>
          </a:xfrm>
          <a:prstGeom prst="rect">
            <a:avLst/>
          </a:prstGeom>
          <a:gradFill rotWithShape="0">
            <a:gsLst>
              <a:gs pos="0">
                <a:srgbClr val="fff3e1"/>
              </a:gs>
              <a:gs pos="50000">
                <a:srgbClr val="fef6ea"/>
              </a:gs>
              <a:gs pos="100000">
                <a:srgbClr val="fff3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 handshake is the most common gesture that goes with a greeting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800" y="1752480"/>
            <a:ext cx="3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6012000" y="3500280"/>
            <a:ext cx="1608120" cy="3600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124080" y="0"/>
            <a:ext cx="2895840" cy="28954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019920" y="510552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3141720"/>
            <a:ext cx="19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handsh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6040" y="2819520"/>
            <a:ext cx="167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baby k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83480" y="2819520"/>
            <a:ext cx="8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h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2240" y="617220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Times New Roman"/>
              </a:rPr>
              <a:t>b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9944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429000" y="594360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6172200" y="0"/>
            <a:ext cx="2590920" cy="2666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771640" cy="25653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24000" y="2584440"/>
            <a:ext cx="30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Kiss on the ch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versal body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50920" y="907920"/>
          <a:ext cx="8664480" cy="5675400"/>
        </p:xfrm>
        <a:graphic>
          <a:graphicData uri="http://schemas.openxmlformats.org/drawingml/2006/table">
            <a:tbl>
              <a:tblPr/>
              <a:tblGrid>
                <a:gridCol w="3457440"/>
                <a:gridCol w="5207040"/>
              </a:tblGrid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Meaning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gest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’m tired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I’m hung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"/>
          <p:cNvSpPr/>
          <p:nvPr/>
        </p:nvSpPr>
        <p:spPr>
          <a:xfrm>
            <a:off x="3726720" y="1557360"/>
            <a:ext cx="437004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Pressing one’s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Together and rest one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head on the back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one’s ha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80000" y="3706920"/>
            <a:ext cx="45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Moving the han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circles over the stom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3760" y="4724280"/>
            <a:ext cx="349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Pat one’s stoma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before a m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11640" y="5734080"/>
            <a:ext cx="113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sm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7560" y="3860640"/>
            <a:ext cx="14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I’m fu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65040" y="5959440"/>
            <a:ext cx="37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lmost any e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5791320" y="5638680"/>
            <a:ext cx="1214280" cy="914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97080" cy="1095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-468360" y="4626000"/>
            <a:ext cx="2521080" cy="2232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292720" y="4194000"/>
            <a:ext cx="2521080" cy="2664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7308720" y="3713040"/>
            <a:ext cx="2592360" cy="3144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3635280" y="426564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1979640" y="4552920"/>
            <a:ext cx="1440000" cy="2305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227640" y="6400800"/>
            <a:ext cx="33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1197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smile can open doors and tear down wa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763640" y="2781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微笑能敲开大门，拆除围墙（化解矛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404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Everyday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864800" y="2498760"/>
            <a:ext cx="60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What can you lear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       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from this pass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64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6451560"/>
            <a:ext cx="9144000" cy="40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68360" y="2708280"/>
            <a:ext cx="84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hen in Rome, do as the Romans do</a:t>
            </a:r>
            <a:r>
              <a:rPr b="0" i="1" lang="zh-CN" sz="3600" spc="-1" strike="noStrike">
                <a:solidFill>
                  <a:srgbClr val="ffff00"/>
                </a:solidFill>
                <a:latin typeface="Arial"/>
              </a:rPr>
              <a:t>！</a:t>
            </a:r>
            <a:r>
              <a:rPr b="1" i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55480" y="4076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（入乡随俗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348000" y="1341360"/>
            <a:ext cx="1800360" cy="95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4897440" cy="17384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43960" y="2463840"/>
            <a:ext cx="675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trast between the bod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nguage in China and that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he 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27480" y="642960"/>
            <a:ext cx="28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Times New Roman"/>
              </a:rPr>
              <a:t>Tas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2843280" y="4952880"/>
            <a:ext cx="3166920" cy="1905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4952880"/>
            <a:ext cx="2805120" cy="1905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6012000" y="4952880"/>
            <a:ext cx="3132000" cy="19051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324000" y="620640"/>
          <a:ext cx="8208720" cy="6228000"/>
        </p:xfrm>
        <a:graphic>
          <a:graphicData uri="http://schemas.openxmlformats.org/drawingml/2006/table">
            <a:tbl>
              <a:tblPr/>
              <a:tblGrid>
                <a:gridCol w="2232000"/>
                <a:gridCol w="3095640"/>
                <a:gridCol w="2881080"/>
              </a:tblGrid>
              <a:tr h="13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a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the  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Chi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, don’t do th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oving the index finger from side to sid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don’t know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hrugging one’s shoulder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l do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humbs u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redible. I can’t believe i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olling one’s eyes.</a:t>
                      </a: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212040" y="4428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99"/>
                </a:solidFill>
                <a:latin typeface="Monotype Corsiva"/>
              </a:rPr>
              <a:t>Comparison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43720" y="2054160"/>
            <a:ext cx="285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Moving the h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from side to s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41200" y="3595680"/>
            <a:ext cx="28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Shaking the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5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42000" y="5484960"/>
            <a:ext cx="241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Open one’s eye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Mouth wi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79840" y="573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51080" y="472428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Thumbs up</a:t>
            </a:r>
            <a:r>
              <a:rPr b="1" lang="en-US" sz="2000" spc="-1" strike="noStrike">
                <a:solidFill>
                  <a:srgbClr val="cc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956720" y="0"/>
            <a:ext cx="1187280" cy="11253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8381880" y="6286680"/>
            <a:ext cx="762120" cy="57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"/>
          <p:cNvGraphicFramePr/>
          <p:nvPr/>
        </p:nvGraphicFramePr>
        <p:xfrm>
          <a:off x="250920" y="692280"/>
          <a:ext cx="8642160" cy="5727600"/>
        </p:xfrm>
        <a:graphic>
          <a:graphicData uri="http://schemas.openxmlformats.org/drawingml/2006/table">
            <a:tbl>
              <a:tblPr/>
              <a:tblGrid>
                <a:gridCol w="2160360"/>
                <a:gridCol w="2952720"/>
                <a:gridCol w="352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ea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the  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sture in Chi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e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  <a:ea typeface="楷体_GB2312"/>
                        </a:rPr>
                        <a:t>Rubbing the thum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  <a:ea typeface="楷体_GB2312"/>
                        </a:rPr>
                        <a:t>and forefinger toge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az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Moving the index finger in a circle in front of the ear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od lu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Cross the finge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e 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Microsoft Sans Serif"/>
                        </a:rPr>
                        <a:t>Moving the index finger forwards and backwar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"/>
          <p:cNvSpPr/>
          <p:nvPr/>
        </p:nvSpPr>
        <p:spPr>
          <a:xfrm>
            <a:off x="-3960" y="11268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99"/>
                </a:solidFill>
                <a:latin typeface="Monotype Corsiva"/>
              </a:rPr>
              <a:t>Comparison </a:t>
            </a:r>
            <a:r>
              <a:rPr b="1" i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3584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55840" y="5954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41520" y="1790640"/>
            <a:ext cx="38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Rubbing the thum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and forefinger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89320" y="3292560"/>
            <a:ext cx="42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Moving the index finger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a circle from side to s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543640" y="420840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No such a ges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50800" y="4952880"/>
            <a:ext cx="416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Moving one’s hand up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down with the 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Microsoft Sans Serif"/>
              </a:rPr>
              <a:t>facing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8381880" y="6286680"/>
            <a:ext cx="762120" cy="57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76200" y="1143000"/>
            <a:ext cx="848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Goodbye, everyone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6400800" cy="4038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400760" y="5300640"/>
            <a:ext cx="682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rab countries, you ea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using the fing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right hand; the left hand is not used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4292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nything wrong in the pict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374508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32720" y="328464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148360" y="3284640"/>
            <a:ext cx="2303280" cy="720720"/>
          </a:xfrm>
          <a:prstGeom prst="wedgeRoundRectCallout">
            <a:avLst>
              <a:gd name="adj1" fmla="val 52824"/>
              <a:gd name="adj2" fmla="val 4801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u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3280" y="1413000"/>
            <a:ext cx="2737080" cy="863640"/>
          </a:xfrm>
          <a:prstGeom prst="wedgeEllipseCallout">
            <a:avLst>
              <a:gd name="adj1" fmla="val -46518"/>
              <a:gd name="adj2" fmla="val 99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x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\fore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0"/>
            <a:ext cx="2448000" cy="981000"/>
          </a:xfrm>
          <a:prstGeom prst="cloudCallout">
            <a:avLst>
              <a:gd name="adj1" fmla="val -44291"/>
              <a:gd name="adj2" fmla="val 700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63640" y="549360"/>
            <a:ext cx="1656000" cy="934920"/>
          </a:xfrm>
          <a:prstGeom prst="flowChartMagneticTap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2205000"/>
            <a:ext cx="1871640" cy="1079640"/>
          </a:xfrm>
          <a:custGeom>
            <a:avLst/>
            <a:gdLst>
              <a:gd name="textAreaLeft" fmla="*/ 234000 w 1871640"/>
              <a:gd name="textAreaRight" fmla="*/ 1638000 w 187164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tle 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re anything wrong in the pict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019560" cy="35816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582920" y="5172120"/>
            <a:ext cx="68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arts of Asia you must not sit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with your fe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ointing 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other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52720" y="299880"/>
            <a:ext cx="8835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 or 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Iran, nodding has the meaning of n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Russia , a visiting friend is greet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 a kiss on the chee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 France, people greet with each ot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th a firm handsh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some countries, people greet eac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with a loving hug, a bow 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ply a nod of the h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84720" y="2781360"/>
            <a:ext cx="733680" cy="7621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6659640" y="5805360"/>
            <a:ext cx="733320" cy="7621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7772400" y="5783400"/>
            <a:ext cx="1371600" cy="10746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7596360" y="0"/>
            <a:ext cx="1476360" cy="10573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580000" y="3933720"/>
            <a:ext cx="800280" cy="7621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7343640" y="1523880"/>
            <a:ext cx="733680" cy="76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3024360" cy="530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211640" y="476280"/>
            <a:ext cx="4176720" cy="424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71640" y="522936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530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4360" y="1125360"/>
            <a:ext cx="79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f you want to learn more please look at the following gestu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788000" y="5659560"/>
            <a:ext cx="1439640" cy="1198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236000" y="5489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0" y="3357720"/>
            <a:ext cx="1908000" cy="1717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132000" y="3141720"/>
            <a:ext cx="2702160" cy="2948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2556000" y="5524560"/>
            <a:ext cx="1123920" cy="1333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6732720" y="3500280"/>
            <a:ext cx="1346040" cy="1656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2060640"/>
            <a:ext cx="9144000" cy="1373760"/>
          </a:xfrm>
          <a:prstGeom prst="rect">
            <a:avLst/>
          </a:prstGeom>
          <a:gradFill rotWithShape="0">
            <a:gsLst>
              <a:gs pos="0">
                <a:srgbClr val="fff0d9"/>
              </a:gs>
              <a:gs pos="100000">
                <a:srgbClr val="fef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Here are some gestures that are widely used in the English-speaking countries and other countries or places.   Do you know the meanings of the following gestur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5530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Wait/Slowly/Impol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9640" y="5157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Play the finger-guessing g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957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349960" cy="2911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828800" y="457200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handsh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52578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welcome / </a:t>
            </a:r>
            <a:r>
              <a:rPr b="1" i="1" lang="en-GB" sz="4000" spc="-1" strike="noStrike">
                <a:solidFill>
                  <a:srgbClr val="ff0000"/>
                </a:solidFill>
                <a:latin typeface="Times New Roman"/>
              </a:rPr>
              <a:t>goodby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4114800" cy="5105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429000" y="228600"/>
            <a:ext cx="313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1371600"/>
            <a:ext cx="2548080" cy="1523880"/>
          </a:xfrm>
          <a:prstGeom prst="cloudCallout">
            <a:avLst>
              <a:gd name="adj1" fmla="val -106509"/>
              <a:gd name="adj2" fmla="val 38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429000" y="-45720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4191120" cy="5105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0" t="0" r="-1611" b="-1582"/>
          <a:stretch/>
        </p:blipFill>
        <p:spPr>
          <a:xfrm>
            <a:off x="1066680" y="0"/>
            <a:ext cx="693432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82720" y="304920"/>
            <a:ext cx="18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Gues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95920" y="990720"/>
            <a:ext cx="2548080" cy="1523880"/>
          </a:xfrm>
          <a:prstGeom prst="cloudCallout">
            <a:avLst>
              <a:gd name="adj1" fmla="val -117166"/>
              <a:gd name="adj2" fmla="val 63231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429000" y="-380880"/>
            <a:ext cx="23814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tfpc user</cp:lastModifiedBy>
  <dcterms:modified xsi:type="dcterms:W3CDTF">2004-06-01T01:33:49Z</dcterms:modified>
  <cp:revision>103</cp:revision>
  <dc:subject/>
  <dc:title>PowerPoint Presentation</dc:title>
</cp:coreProperties>
</file>